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834-8155-4BB2-9E29-E3C02AA4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877-AF1B-4CD1-8D02-F93E8D9D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1B1-1B5B-46DA-93E5-D4D3E3DA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669-C139-4B43-80C8-8E92F6F5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7B8-E5D1-456B-BAEE-C473DC50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C20-EC35-4721-81CF-7BC6669A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F7F-26C2-4CE8-89DC-ED779B68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EB8-9342-475B-B056-86734C39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F58-8122-4169-AE2B-49E8E922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323-B007-45A8-B396-47A3EB62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4C7-9ADE-43C2-9DB4-6728EC93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EE3-1F7A-4510-A8D7-3D817CE3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14DA-41DE-4A2D-9C76-9478EF32AB74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09480" y="682560"/>
            <a:ext cx="8120160" cy="254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rgie G. Cotmay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de IV-Bayaniha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012-2013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tle 1" descr=""/>
          <p:cNvPicPr/>
          <p:nvPr/>
        </p:nvPicPr>
        <p:blipFill>
          <a:blip r:embed="rId1"/>
          <a:stretch/>
        </p:blipFill>
        <p:spPr>
          <a:xfrm>
            <a:off x="158760" y="268200"/>
            <a:ext cx="8534520" cy="1158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ective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191120" y="1143000"/>
            <a:ext cx="220968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6095880" y="2209680"/>
            <a:ext cx="2648160" cy="2359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>
            <a:off x="2895480" y="3962520"/>
            <a:ext cx="3505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158760" y="268200"/>
            <a:ext cx="853452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e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5943600" y="274320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3962520" y="4191120"/>
            <a:ext cx="2628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158760" y="268200"/>
            <a:ext cx="853452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3429000" y="1219320"/>
            <a:ext cx="5715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7:22:21Z</dcterms:created>
  <dc:creator>wl7</dc:creator>
  <dc:description/>
  <dc:language>en-US</dc:language>
  <cp:lastModifiedBy>wl7</cp:lastModifiedBy>
  <dcterms:modified xsi:type="dcterms:W3CDTF">2011-10-12T07:55:59Z</dcterms:modified>
  <cp:revision>4</cp:revision>
  <dc:subject/>
  <dc:title>La Salle Academy</dc:title>
</cp:coreProperties>
</file>